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2DB-9FEF-41A1-A02F-74A236CF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ACE-71C9-4489-BBAE-825893B1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952-576F-478A-B3D5-91347641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2DD-013C-4B72-8001-81FF880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273-57B4-4D27-8B7B-D4280F0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B27-CBA6-431C-BD28-3CE10B5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259-0274-4D30-A391-0FCD5832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E42-8FE2-455F-AFCF-ECDE33A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459-49A6-49DF-8BF0-D614498A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EDC-850A-4E2C-8CAF-08399E8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66A-F357-43BD-8463-5AC20CE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909-2DFF-4D70-AA49-6719AD0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EBB9-3493-4AF7-B240-E815C8FEB0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s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nnectives and Rhetoric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sive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Features of Effective Persuasio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5229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124000" y="836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se the following to make your argument even strong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1557360"/>
            <a:ext cx="871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connective is a word that is used to link one sentence to another or extend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do not yet know much about Jekyll himself,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will find out more as the story progresses. We do, however, know more about Hyd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rthermore, the story is full of mystery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se are effective as it allows you to create more complex sentences and also allows you to emphasise your points even mo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hetor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rhetorical question is when the speaker does not require an answ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it not so, that..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re we supposed to just let Africa starv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an effective way of convincing someone to agree with you; they would have to be crazy (and wrong) to disagree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8:40:10Z</dcterms:created>
  <dc:creator>Gibb</dc:creator>
  <dc:description/>
  <dc:language>en-US</dc:language>
  <cp:lastModifiedBy>Gibb</cp:lastModifiedBy>
  <dcterms:modified xsi:type="dcterms:W3CDTF">2011-08-30T19:22:03Z</dcterms:modified>
  <cp:revision>5</cp:revision>
  <dc:subject/>
  <dc:title>Persuasive Writing</dc:title>
</cp:coreProperties>
</file>